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1D08-2FF6-4E2A-AC99-82075570C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40B2-8E83-425A-B7DD-F6361B9DF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8509-3F39-44AB-A9F6-5D51B08C6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415C-373A-4BC6-A699-861DC9A86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5692-7FBD-43D6-918C-45AFDC2AA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98B8-4891-4215-91A6-20A791D64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7BEC-77C3-4523-B195-8D802F86F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9AA4-E96B-4DF5-B838-83587B482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876E-FC79-4E49-9BE3-FD1BAD9B8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8D00-4993-4BF5-BED8-866DC766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84A2-59DE-44FF-B19D-5333A9C8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DBFA-A6F4-4F4C-9C7E-821E85A7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59DAF-3242-4D8F-8BBF-BE866D54A9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Bivariate Data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Cambria"/>
              </a:rPr>
              <a:t>Two-way frequency tables and segmented bar chart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Two-way Frequency Tables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Two-Way Frequency tables are used to show the relationship between two</a:t>
            </a:r>
            <a:r>
              <a:rPr b="1" lang="en-AU" sz="3200" spc="-1" strike="noStrike">
                <a:solidFill>
                  <a:srgbClr val="000000"/>
                </a:solidFill>
                <a:latin typeface="Cambria"/>
              </a:rPr>
              <a:t> categorical variables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The </a:t>
            </a:r>
            <a:r>
              <a:rPr b="1" lang="en-AU" sz="3200" spc="-1" strike="noStrike">
                <a:solidFill>
                  <a:srgbClr val="000000"/>
                </a:solidFill>
                <a:latin typeface="Cambria"/>
              </a:rPr>
              <a:t>independent variable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 is placed in the </a:t>
            </a:r>
            <a:r>
              <a:rPr b="1" lang="en-AU" sz="3200" spc="-1" strike="noStrike">
                <a:solidFill>
                  <a:srgbClr val="000000"/>
                </a:solidFill>
                <a:latin typeface="Cambria"/>
              </a:rPr>
              <a:t>columns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 of the table.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e.g. Ex 2D, 1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When the independent variable is placed in the columns of the table, the percentages should be calculated in columns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e.g. Ex 2D, Q.4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For you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Ex 2D, Q. 2, 3, 5, 6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Segmented bar charts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The data in a two-way frequency table can also be represented graphically in a segmented bar char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The columns in a segmented bar chart match the columns in a two-way frequency table. Each segment corresponds to each cell in the table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e.g. Ex 2D, Q. 7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For you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Ex 2D, 8 and present the table in Q. 8 as a segmented bar chart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2T05:02:30Z</dcterms:created>
  <dc:creator>08843474</dc:creator>
  <dc:description/>
  <dc:language>en-US</dc:language>
  <cp:lastModifiedBy>08843474</cp:lastModifiedBy>
  <dcterms:modified xsi:type="dcterms:W3CDTF">2011-02-16T22:33:17Z</dcterms:modified>
  <cp:revision>7</cp:revision>
  <dc:subject/>
  <dc:title>Bivariate Data</dc:title>
</cp:coreProperties>
</file>